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1B1-F3E0-4847-823C-940D9275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E89-67F0-4046-BFA7-31755B9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288-FE26-4C16-B1F8-793192C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305-D169-4FCA-9473-D2AE6336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E7F-72AC-4AD0-B919-504FF8A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D74-634D-4434-A826-F4DE2E8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E4C-9AF1-4186-B894-013FC66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933-D135-4E5B-939F-4337C69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127-C6EF-4B3A-AD66-8DCECB2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5EC-E93B-42D4-9FD0-64B8FB2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FE7-A0A7-440E-994A-B76DF0C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52-7398-430E-A55A-CE66DEC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053C-2210-401C-8F33-4C442F7D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038480" y="2601000"/>
            <a:ext cx="5088600" cy="4230360"/>
            <a:chOff x="4038480" y="2601000"/>
            <a:chExt cx="5088600" cy="4230360"/>
          </a:xfrm>
        </p:grpSpPr>
        <p:sp>
          <p:nvSpPr>
            <p:cNvPr id="6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8608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114880"/>
            <a:ext cx="9144000" cy="174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1905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513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43120" y="746280"/>
            <a:ext cx="4754520" cy="1420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262240"/>
            <a:ext cx="6553080" cy="36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BLcd"/>
              </a:rPr>
              <a:t>Global Services Corpor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BLcd"/>
              </a:rPr>
              <a:t>(MGS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BLcd"/>
              </a:rPr>
              <a:t>Jay W. Kelley,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230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Implementation Initi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16360" y="1600200"/>
            <a:ext cx="3168360" cy="453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80880"/>
            <a:ext cx="86868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"/>
              </a:rPr>
              <a:t>NATO Acquisition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1400" y="5732640"/>
            <a:ext cx="806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09600" y="5761080"/>
            <a:ext cx="9939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Concep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08200" y="5761080"/>
            <a:ext cx="11556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Defin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75200" y="5761080"/>
            <a:ext cx="14540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rocur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61440" y="5761080"/>
            <a:ext cx="12477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U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403200" y="1668600"/>
            <a:ext cx="13986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TO </a:t>
            </a:r>
            <a:r>
              <a:rPr b="1" lang="en-GB" sz="1300" spc="-1" strike="noStrike">
                <a:solidFill>
                  <a:srgbClr val="000066"/>
                </a:solidFill>
                <a:latin typeface="Times New Roman"/>
              </a:rPr>
              <a:t>Committe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SC/U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3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C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M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6240" y="1668600"/>
            <a:ext cx="0" cy="42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066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988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75600" y="5732640"/>
            <a:ext cx="144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1852560"/>
            <a:ext cx="36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4000" y="23734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11240" y="1706760"/>
            <a:ext cx="1510560" cy="3823920"/>
            <a:chOff x="1011240" y="1706760"/>
            <a:chExt cx="1510560" cy="3823920"/>
          </a:xfrm>
        </p:grpSpPr>
        <p:grpSp>
          <p:nvGrpSpPr>
            <p:cNvPr id="275" name=""/>
            <p:cNvGrpSpPr/>
            <p:nvPr/>
          </p:nvGrpSpPr>
          <p:grpSpPr>
            <a:xfrm>
              <a:off x="1015200" y="3662640"/>
              <a:ext cx="1250640" cy="1291320"/>
              <a:chOff x="1015200" y="3662640"/>
              <a:chExt cx="1250640" cy="1291320"/>
            </a:xfrm>
          </p:grpSpPr>
          <p:sp>
            <p:nvSpPr>
              <p:cNvPr id="276" name=""/>
              <p:cNvSpPr/>
              <p:nvPr/>
            </p:nvSpPr>
            <p:spPr>
              <a:xfrm>
                <a:off x="1015200" y="3662640"/>
                <a:ext cx="1162800" cy="113796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864"/>
                    </a:lnTo>
                    <a:lnTo>
                      <a:pt x="144" y="864"/>
                    </a:lnTo>
                    <a:lnTo>
                      <a:pt x="14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600" rIns="75600" tIns="37800" bIns="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07360" y="3690000"/>
                <a:ext cx="1158480" cy="12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oncep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Feasibil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rchitectu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nalys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11240" y="1706760"/>
              <a:ext cx="1510560" cy="3823920"/>
              <a:chOff x="1011240" y="1706760"/>
              <a:chExt cx="1510560" cy="3823920"/>
            </a:xfrm>
          </p:grpSpPr>
          <p:sp>
            <p:nvSpPr>
              <p:cNvPr id="279" name=""/>
              <p:cNvSpPr/>
              <p:nvPr/>
            </p:nvSpPr>
            <p:spPr>
              <a:xfrm rot="16200000">
                <a:off x="457560" y="3466440"/>
                <a:ext cx="3823920" cy="30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evelopment of Capability Package (CP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74760" y="2019240"/>
                <a:ext cx="847440" cy="471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3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Plan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11240" y="3014640"/>
                <a:ext cx="1158480" cy="273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552760" y="1549440"/>
            <a:ext cx="1352160" cy="4124160"/>
            <a:chOff x="2552760" y="1549440"/>
            <a:chExt cx="1352160" cy="4124160"/>
          </a:xfrm>
        </p:grpSpPr>
        <p:sp>
          <p:nvSpPr>
            <p:cNvPr id="283" name=""/>
            <p:cNvSpPr/>
            <p:nvPr/>
          </p:nvSpPr>
          <p:spPr>
            <a:xfrm rot="16200000">
              <a:off x="1716840" y="3485520"/>
              <a:ext cx="4124160" cy="251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Approval of Capability Pack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52760" y="183888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olicy 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5720" y="274320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Operation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5720" y="3647520"/>
              <a:ext cx="1017000" cy="79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 technic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962520" y="1447560"/>
            <a:ext cx="1096920" cy="4136760"/>
            <a:chOff x="3962520" y="1447560"/>
            <a:chExt cx="1096920" cy="4136760"/>
          </a:xfrm>
        </p:grpSpPr>
        <p:sp>
          <p:nvSpPr>
            <p:cNvPr id="288" name=""/>
            <p:cNvSpPr/>
            <p:nvPr/>
          </p:nvSpPr>
          <p:spPr>
            <a:xfrm rot="16200000">
              <a:off x="2856960" y="3381840"/>
              <a:ext cx="4136760" cy="268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Fund Authoris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3552840"/>
              <a:ext cx="61920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TBCE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325600"/>
              <a:ext cx="784080" cy="7984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Fun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pprov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095800" y="1523880"/>
            <a:ext cx="1106280" cy="4137120"/>
            <a:chOff x="5095800" y="1523880"/>
            <a:chExt cx="1106280" cy="4137120"/>
          </a:xfrm>
        </p:grpSpPr>
        <p:sp>
          <p:nvSpPr>
            <p:cNvPr id="292" name=""/>
            <p:cNvSpPr/>
            <p:nvPr/>
          </p:nvSpPr>
          <p:spPr>
            <a:xfrm rot="16200000">
              <a:off x="3999240" y="3458160"/>
              <a:ext cx="4137120" cy="268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Contract Awa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5800" y="3628440"/>
              <a:ext cx="76464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IF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5800" y="449928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Support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95800" y="275760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10360" y="1523880"/>
            <a:ext cx="1212480" cy="4137120"/>
            <a:chOff x="6210360" y="1523880"/>
            <a:chExt cx="1212480" cy="4137120"/>
          </a:xfrm>
        </p:grpSpPr>
        <p:sp>
          <p:nvSpPr>
            <p:cNvPr id="297" name=""/>
            <p:cNvSpPr/>
            <p:nvPr/>
          </p:nvSpPr>
          <p:spPr>
            <a:xfrm>
              <a:off x="6226920" y="4435920"/>
              <a:ext cx="873360" cy="870840"/>
            </a:xfrm>
            <a:prstGeom prst="flowChartManualInpu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210360" y="1523880"/>
              <a:ext cx="1212480" cy="4137120"/>
              <a:chOff x="6210360" y="1523880"/>
              <a:chExt cx="1212480" cy="413712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210360" y="1523880"/>
                <a:ext cx="1212480" cy="4137120"/>
                <a:chOff x="6210360" y="1523880"/>
                <a:chExt cx="1212480" cy="4137120"/>
              </a:xfrm>
            </p:grpSpPr>
            <p:sp>
              <p:nvSpPr>
                <p:cNvPr id="300" name=""/>
                <p:cNvSpPr/>
                <p:nvPr/>
              </p:nvSpPr>
              <p:spPr>
                <a:xfrm rot="16200000">
                  <a:off x="5219640" y="3457800"/>
                  <a:ext cx="4137120" cy="26892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 algn="ctr"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IOC / FO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0800000">
                  <a:off x="6226920" y="3628080"/>
                  <a:ext cx="873360" cy="870840"/>
                </a:xfrm>
                <a:prstGeom prst="flowChartManualInpu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0" rIns="792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10360" y="4642920"/>
                  <a:ext cx="932760" cy="65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Implemen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comple-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6224040" y="3773880"/>
                <a:ext cx="90864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ctr">
                <a:noAutofit/>
              </a:bodyPr>
              <a:p>
                <a:pPr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Imple-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ment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7462800" y="1523880"/>
            <a:ext cx="1546200" cy="4137120"/>
            <a:chOff x="7462800" y="1523880"/>
            <a:chExt cx="1546200" cy="4137120"/>
          </a:xfrm>
        </p:grpSpPr>
        <p:sp>
          <p:nvSpPr>
            <p:cNvPr id="305" name=""/>
            <p:cNvSpPr/>
            <p:nvPr/>
          </p:nvSpPr>
          <p:spPr>
            <a:xfrm rot="5400000">
              <a:off x="7980120" y="4647960"/>
              <a:ext cx="871560" cy="512640"/>
            </a:xfrm>
            <a:prstGeom prst="flowChartDocumen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3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462800" y="1523880"/>
              <a:ext cx="1546200" cy="4137120"/>
              <a:chOff x="7462800" y="1523880"/>
              <a:chExt cx="1546200" cy="413712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806160" y="3458160"/>
                <a:ext cx="4137120" cy="268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isposa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491240" y="2757600"/>
                <a:ext cx="1180800" cy="798480"/>
                <a:chOff x="7491240" y="2757600"/>
                <a:chExt cx="1180800" cy="7984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7491240" y="2757600"/>
                  <a:ext cx="1180800" cy="798480"/>
                  <a:chOff x="7491240" y="2757600"/>
                  <a:chExt cx="1180800" cy="79848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16200000">
                    <a:off x="7429320" y="2819520"/>
                    <a:ext cx="798480" cy="67464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5400000">
                    <a:off x="8019720" y="2903760"/>
                    <a:ext cx="798480" cy="50616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2" name=""/>
                <p:cNvSpPr/>
                <p:nvPr/>
              </p:nvSpPr>
              <p:spPr>
                <a:xfrm rot="16200000">
                  <a:off x="7357320" y="3015000"/>
                  <a:ext cx="755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Usag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200000">
                  <a:off x="8128080" y="3009600"/>
                  <a:ext cx="70020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End of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cyc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7477200" y="4421160"/>
                <a:ext cx="682560" cy="954000"/>
                <a:chOff x="7477200" y="4421160"/>
                <a:chExt cx="682560" cy="954000"/>
              </a:xfrm>
            </p:grpSpPr>
            <p:sp>
              <p:nvSpPr>
                <p:cNvPr id="315" name=""/>
                <p:cNvSpPr/>
                <p:nvPr/>
              </p:nvSpPr>
              <p:spPr>
                <a:xfrm rot="16200000">
                  <a:off x="7382520" y="4562640"/>
                  <a:ext cx="871560" cy="682560"/>
                </a:xfrm>
                <a:prstGeom prst="flowChartDocument">
                  <a:avLst/>
                </a:prstGeom>
                <a:solidFill>
                  <a:srgbClr val="ddddd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200000">
                  <a:off x="7282800" y="4669560"/>
                  <a:ext cx="95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In service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suppor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7462800" y="3846600"/>
                <a:ext cx="1209600" cy="290520"/>
              </a:xfrm>
              <a:prstGeom prst="rect">
                <a:avLst/>
              </a:prstGeom>
              <a:solidFill>
                <a:srgbClr val="00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uppor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Global Servic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urrent Opportun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IFB CO-12369-NRF (DCIS) (w/Lockheed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Kandahar CIS O&amp;M (€74 Mill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HQ Kabul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Intel F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Logistics F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NNCC (w/Siemen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Bi-SC PMIC (€22 Mill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Area 7 SSC Re-Compe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C3A - VT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CMA - SMIS Re-Compete (Extension?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CMA - TMD Industrial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O HQ - CIS Services Contra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CT - SHAPE PMO (4 + 4 for 4-6 year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MSA - Balkans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FCHQ - KAIA CIS O&amp;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455400"/>
            <a:ext cx="881064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Security/Intel Opportun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28600" y="1143000"/>
          <a:ext cx="8915400" cy="5522760"/>
        </p:xfrm>
        <a:graphic>
          <a:graphicData uri="http://schemas.openxmlformats.org/drawingml/2006/table">
            <a:tbl>
              <a:tblPr/>
              <a:tblGrid>
                <a:gridCol w="1432080"/>
                <a:gridCol w="1579320"/>
                <a:gridCol w="590400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2005/0IS03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7,899,64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ype "B" Cost Estimate - Develop Intelligence Functional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INTEL-FS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piral I - Initial Operational Cap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55,715,1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On-Line Crypto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0,685,07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Off-Line Crypto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4,810,4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Secure Information Exchange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3,263,7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INFOSEC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,455,1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INFOSEC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CM03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2,476,80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P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2,274,35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Computer Incident Response Capability (NCIRC) &amp; Intrusion Detection System (IDS), Final Operational Capability (F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 3,137,28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Electronic Key Management System (NEK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5,194,83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Secure Information Exchange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3,524,28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INFOSEC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,571,2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INFOSEC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0IS03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2,675,46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Provide NATO P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$124,683,26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ing Business With N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465200"/>
            <a:ext cx="8991720" cy="55083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differences between DoD and NAT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l Money vs IDIQ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FP is the Stand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er EBIT Potential (Fees &gt;15%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west Priced Compliant Bid W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st Value is Sometimes Used (50% Price/50% Technical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% Technical (25% Eng, 15% Mgt, 5% Risk, 5% Supportability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d Bonds, Performance Bonds, and Liquidated Da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ost of Money  (Euros vs Dollar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osals in English or Host Sponsored National Langua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ss Formal Than DoD Submiss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used on “Shall” Statements…not “Will” or Must”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Global Servic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tential Business Area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ited N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uropean Un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uroContr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uropean Patent Offi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uropean National Business Opportuni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U.S. Government Opportuni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41800" cy="28544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1324080"/>
            <a:ext cx="4130640" cy="2867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987480" cy="291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219320" y="2057400"/>
            <a:ext cx="987480" cy="291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915480" y="2362320"/>
            <a:ext cx="17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ManTech Glob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3800" y="2133720"/>
            <a:ext cx="23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ManTech Global Services - 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809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3962520"/>
            <a:ext cx="4419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Tech Global Services – Branch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ManTech Interface to U.S. 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 Docu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 Customer Vis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ing/Customer 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eign Teaming Recommend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ManTech Face To NATO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962520"/>
            <a:ext cx="411480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Tech Global Services Corpo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ra-ManTech Coordination for NATO Bi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m ManTech Approach to B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G, IS&amp;T, SM&amp;A, M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TAR/EAR Review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portunity Support Board (OSB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TO Security/Clearance Coord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TO Proposal Sup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am ManTech Approach to NATO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880"/>
            <a:ext cx="7113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NATO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Global Services NATO Proc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ablish Points of Contact (POCs) for Each Business Unit (BU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 Comprehensive Overview of NATO Business Opportun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portunity Support Bo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ntify Cross-Corporate Capabi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seminate Opportunity and Relevant Documentation to BU POC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 Relationships w/European Compan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cilitate Teaming w/European Compan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AR/E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Global Services Corpor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ussels, Belgium Branch Establish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 March 200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24280" y="274320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Tech Global Services (MGS) Organizational Stru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429000" y="1600200"/>
            <a:ext cx="2514600" cy="1218960"/>
            <a:chOff x="3429000" y="1600200"/>
            <a:chExt cx="2514600" cy="1218960"/>
          </a:xfrm>
        </p:grpSpPr>
        <p:sp>
          <p:nvSpPr>
            <p:cNvPr id="87" name=""/>
            <p:cNvSpPr/>
            <p:nvPr/>
          </p:nvSpPr>
          <p:spPr>
            <a:xfrm>
              <a:off x="3429000" y="1676160"/>
              <a:ext cx="251460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.J. Peders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irman of the 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ef Executive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9000" y="1600200"/>
              <a:ext cx="2514600" cy="533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Intern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429000" y="3048120"/>
            <a:ext cx="2514600" cy="987120"/>
            <a:chOff x="3429000" y="3048120"/>
            <a:chExt cx="2514600" cy="987120"/>
          </a:xfrm>
        </p:grpSpPr>
        <p:sp>
          <p:nvSpPr>
            <p:cNvPr id="90" name=""/>
            <p:cNvSpPr/>
            <p:nvPr/>
          </p:nvSpPr>
          <p:spPr>
            <a:xfrm>
              <a:off x="3429000" y="3109320"/>
              <a:ext cx="2514600" cy="92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.A. Cole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ident &amp; CO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3048120"/>
              <a:ext cx="2514600" cy="431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Intern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581280" y="4267080"/>
            <a:ext cx="2286000" cy="1066680"/>
            <a:chOff x="3581280" y="4267080"/>
            <a:chExt cx="2286000" cy="1066680"/>
          </a:xfrm>
        </p:grpSpPr>
        <p:sp>
          <p:nvSpPr>
            <p:cNvPr id="93" name=""/>
            <p:cNvSpPr/>
            <p:nvPr/>
          </p:nvSpPr>
          <p:spPr>
            <a:xfrm>
              <a:off x="3581280" y="4333320"/>
              <a:ext cx="2286000" cy="100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.W. Kel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id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4267080"/>
              <a:ext cx="2286000" cy="466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Glob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581280" y="5562720"/>
            <a:ext cx="2286000" cy="1066320"/>
            <a:chOff x="3581280" y="5562720"/>
            <a:chExt cx="2286000" cy="1066320"/>
          </a:xfrm>
        </p:grpSpPr>
        <p:sp>
          <p:nvSpPr>
            <p:cNvPr id="96" name=""/>
            <p:cNvSpPr/>
            <p:nvPr/>
          </p:nvSpPr>
          <p:spPr>
            <a:xfrm>
              <a:off x="3581280" y="5628960"/>
              <a:ext cx="228600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.E. Mar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280" y="5562720"/>
              <a:ext cx="2286000" cy="466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Tech Global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Strategic Comma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1612800"/>
            <a:ext cx="8228520" cy="2349360"/>
            <a:chOff x="457200" y="1612800"/>
            <a:chExt cx="8228520" cy="2349360"/>
          </a:xfrm>
        </p:grpSpPr>
        <p:cxnSp>
          <p:nvCxnSpPr>
            <p:cNvPr id="100" name="_s22536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32120" y="2116800"/>
              <a:ext cx="294120" cy="222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2537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3315960" y="2121480"/>
              <a:ext cx="294120" cy="221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2538"/>
            <p:cNvCxnSpPr>
              <a:stCxn id="102" idx="0"/>
              <a:endCxn id="106" idx="2"/>
            </p:cNvCxnSpPr>
            <p:nvPr/>
          </p:nvCxnSpPr>
          <p:spPr>
            <a:xfrm flipV="1">
              <a:off x="4568760" y="2199240"/>
              <a:ext cx="5400" cy="29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2539"/>
            <p:cNvSpPr/>
            <p:nvPr/>
          </p:nvSpPr>
          <p:spPr>
            <a:xfrm>
              <a:off x="2669040" y="16128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rth Atlantic Counc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2540"/>
            <p:cNvSpPr/>
            <p:nvPr/>
          </p:nvSpPr>
          <p:spPr>
            <a:xfrm>
              <a:off x="2669040" y="249372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C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s, Belg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2541"/>
            <p:cNvSpPr/>
            <p:nvPr/>
          </p:nvSpPr>
          <p:spPr>
            <a:xfrm>
              <a:off x="457200" y="33750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perations (ACO) Mons, Belgi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2542"/>
            <p:cNvSpPr/>
            <p:nvPr/>
          </p:nvSpPr>
          <p:spPr>
            <a:xfrm>
              <a:off x="4890240" y="3375000"/>
              <a:ext cx="379548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Transformation (ACT)  -  Norfolk, V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7200" y="4114800"/>
            <a:ext cx="380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NORTH (N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 (ISAF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SOUTH (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aq (NTM-I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114800"/>
            <a:ext cx="3962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Training Center (JWTC)  (P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Center  (JWC) (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Analysis Lessons Learned Center (JALLC) (PO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8720" y="59436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ManTech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NATO Organizational &amp; Acquisition Structure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9480"/>
            <a:ext cx="9144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1295280"/>
            <a:ext cx="7772400" cy="5053680"/>
            <a:chOff x="533520" y="1295280"/>
            <a:chExt cx="7772400" cy="5053680"/>
          </a:xfrm>
        </p:grpSpPr>
        <p:cxnSp>
          <p:nvCxnSpPr>
            <p:cNvPr id="113" name="_s21533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631476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1532"/>
            <p:cNvCxnSpPr>
              <a:stCxn id="117" idx="0"/>
              <a:endCxn id="115" idx="2"/>
            </p:cNvCxnSpPr>
            <p:nvPr/>
          </p:nvCxnSpPr>
          <p:spPr>
            <a:xfrm flipV="1">
              <a:off x="6019920" y="2306520"/>
              <a:ext cx="2160" cy="100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1515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515560" y="323172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1516"/>
            <p:cNvCxnSpPr>
              <a:stCxn id="122" idx="0"/>
              <a:endCxn id="120" idx="2"/>
            </p:cNvCxnSpPr>
            <p:nvPr/>
          </p:nvCxnSpPr>
          <p:spPr>
            <a:xfrm flipV="1" rot="16200000">
              <a:off x="47152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1517"/>
            <p:cNvCxnSpPr>
              <a:stCxn id="124" idx="0"/>
              <a:endCxn id="120" idx="2"/>
            </p:cNvCxnSpPr>
            <p:nvPr/>
          </p:nvCxnSpPr>
          <p:spPr>
            <a:xfrm flipV="1">
              <a:off x="4419720" y="4328280"/>
              <a:ext cx="2160" cy="100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1518"/>
            <p:cNvCxnSpPr>
              <a:stCxn id="126" idx="0"/>
              <a:endCxn id="120" idx="2"/>
            </p:cNvCxnSpPr>
            <p:nvPr/>
          </p:nvCxnSpPr>
          <p:spPr>
            <a:xfrm flipH="1" flipV="1" rot="5400000">
              <a:off x="31150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1519"/>
            <p:cNvCxnSpPr>
              <a:stCxn id="128" idx="0"/>
              <a:endCxn id="120" idx="2"/>
            </p:cNvCxnSpPr>
            <p:nvPr/>
          </p:nvCxnSpPr>
          <p:spPr>
            <a:xfrm flipH="1" flipV="1" rot="5400000">
              <a:off x="2315160" y="323208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1521"/>
            <p:cNvCxnSpPr>
              <a:stCxn id="120" idx="0"/>
              <a:endCxn id="115" idx="2"/>
            </p:cNvCxnSpPr>
            <p:nvPr/>
          </p:nvCxnSpPr>
          <p:spPr>
            <a:xfrm flipH="1" flipV="1" rot="5400000">
              <a:off x="471492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1522"/>
            <p:cNvSpPr/>
            <p:nvPr/>
          </p:nvSpPr>
          <p:spPr>
            <a:xfrm>
              <a:off x="5334120" y="12952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rt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lan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1523"/>
            <p:cNvSpPr/>
            <p:nvPr/>
          </p:nvSpPr>
          <p:spPr>
            <a:xfrm>
              <a:off x="37339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ussels, 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1525"/>
            <p:cNvSpPr/>
            <p:nvPr/>
          </p:nvSpPr>
          <p:spPr>
            <a:xfrm>
              <a:off x="5335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1526"/>
            <p:cNvSpPr/>
            <p:nvPr/>
          </p:nvSpPr>
          <p:spPr>
            <a:xfrm>
              <a:off x="21337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1527"/>
            <p:cNvSpPr/>
            <p:nvPr/>
          </p:nvSpPr>
          <p:spPr>
            <a:xfrm>
              <a:off x="37339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1528"/>
            <p:cNvSpPr/>
            <p:nvPr/>
          </p:nvSpPr>
          <p:spPr>
            <a:xfrm>
              <a:off x="5334120" y="5337000"/>
              <a:ext cx="1371600" cy="1009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1529"/>
            <p:cNvSpPr/>
            <p:nvPr/>
          </p:nvSpPr>
          <p:spPr>
            <a:xfrm>
              <a:off x="69343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st 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1530"/>
            <p:cNvSpPr/>
            <p:nvPr/>
          </p:nvSpPr>
          <p:spPr>
            <a:xfrm>
              <a:off x="53341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1531"/>
            <p:cNvSpPr/>
            <p:nvPr/>
          </p:nvSpPr>
          <p:spPr>
            <a:xfrm>
              <a:off x="69343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89629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Acquisition Organiz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295280"/>
            <a:ext cx="8229600" cy="3796920"/>
            <a:chOff x="457200" y="1295280"/>
            <a:chExt cx="8229600" cy="3796920"/>
          </a:xfrm>
        </p:grpSpPr>
        <p:cxnSp>
          <p:nvCxnSpPr>
            <p:cNvPr id="132" name="_s23559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37123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23560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307260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3561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243324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3562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17935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23563"/>
            <p:cNvCxnSpPr>
              <a:stCxn id="134" idx="3"/>
              <a:endCxn id="142" idx="2"/>
            </p:cNvCxnSpPr>
            <p:nvPr/>
          </p:nvCxnSpPr>
          <p:spPr>
            <a:xfrm flipV="1">
              <a:off x="3473280" y="1985760"/>
              <a:ext cx="2106000" cy="69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3564"/>
            <p:cNvCxnSpPr>
              <a:stCxn id="144" idx="0"/>
              <a:endCxn id="142" idx="2"/>
            </p:cNvCxnSpPr>
            <p:nvPr/>
          </p:nvCxnSpPr>
          <p:spPr>
            <a:xfrm flipV="1" rot="16200000">
              <a:off x="5649840" y="1913400"/>
              <a:ext cx="2415960" cy="25596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3565"/>
            <p:cNvCxnSpPr>
              <a:stCxn id="146" idx="0"/>
              <a:endCxn id="142" idx="2"/>
            </p:cNvCxnSpPr>
            <p:nvPr/>
          </p:nvCxnSpPr>
          <p:spPr>
            <a:xfrm flipV="1" rot="16200000">
              <a:off x="5009400" y="2553840"/>
              <a:ext cx="2415960" cy="12787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3566"/>
            <p:cNvCxnSpPr>
              <a:stCxn id="148" idx="0"/>
              <a:endCxn id="142" idx="2"/>
            </p:cNvCxnSpPr>
            <p:nvPr/>
          </p:nvCxnSpPr>
          <p:spPr>
            <a:xfrm flipH="1" flipV="1" rot="5400000">
              <a:off x="4369680" y="3192120"/>
              <a:ext cx="2415960" cy="25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3567"/>
            <p:cNvCxnSpPr>
              <a:stCxn id="150" idx="0"/>
              <a:endCxn id="142" idx="2"/>
            </p:cNvCxnSpPr>
            <p:nvPr/>
          </p:nvCxnSpPr>
          <p:spPr>
            <a:xfrm flipH="1" flipV="1" rot="5400000">
              <a:off x="3729240" y="2551680"/>
              <a:ext cx="2415960" cy="12834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3568"/>
            <p:cNvCxnSpPr>
              <a:stCxn id="152" idx="0"/>
              <a:endCxn id="142" idx="2"/>
            </p:cNvCxnSpPr>
            <p:nvPr/>
          </p:nvCxnSpPr>
          <p:spPr>
            <a:xfrm flipH="1" flipV="1" rot="5400000">
              <a:off x="3089520" y="1911960"/>
              <a:ext cx="2415960" cy="25632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23569"/>
            <p:cNvSpPr/>
            <p:nvPr/>
          </p:nvSpPr>
          <p:spPr>
            <a:xfrm>
              <a:off x="5029200" y="1295280"/>
              <a:ext cx="1096920" cy="6908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3570"/>
            <p:cNvSpPr/>
            <p:nvPr/>
          </p:nvSpPr>
          <p:spPr>
            <a:xfrm>
              <a:off x="246708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3571"/>
            <p:cNvSpPr/>
            <p:nvPr/>
          </p:nvSpPr>
          <p:spPr>
            <a:xfrm>
              <a:off x="7588080" y="4401720"/>
              <a:ext cx="10987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3572"/>
            <p:cNvSpPr/>
            <p:nvPr/>
          </p:nvSpPr>
          <p:spPr>
            <a:xfrm>
              <a:off x="630720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3573"/>
            <p:cNvSpPr/>
            <p:nvPr/>
          </p:nvSpPr>
          <p:spPr>
            <a:xfrm>
              <a:off x="502776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3574"/>
            <p:cNvSpPr/>
            <p:nvPr/>
          </p:nvSpPr>
          <p:spPr>
            <a:xfrm>
              <a:off x="374652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3575"/>
            <p:cNvSpPr/>
            <p:nvPr/>
          </p:nvSpPr>
          <p:spPr>
            <a:xfrm>
              <a:off x="2378160" y="2330640"/>
              <a:ext cx="1095120" cy="69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itt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3576"/>
            <p:cNvSpPr/>
            <p:nvPr/>
          </p:nvSpPr>
          <p:spPr>
            <a:xfrm>
              <a:off x="457200" y="336636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3577"/>
            <p:cNvSpPr/>
            <p:nvPr/>
          </p:nvSpPr>
          <p:spPr>
            <a:xfrm>
              <a:off x="1736640" y="3366360"/>
              <a:ext cx="109692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3578"/>
            <p:cNvSpPr/>
            <p:nvPr/>
          </p:nvSpPr>
          <p:spPr>
            <a:xfrm>
              <a:off x="3016080" y="3366360"/>
              <a:ext cx="109728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3579"/>
            <p:cNvSpPr/>
            <p:nvPr/>
          </p:nvSpPr>
          <p:spPr>
            <a:xfrm>
              <a:off x="4295880" y="3366360"/>
              <a:ext cx="109836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G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095880" y="51814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518148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a 7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VTC (ISA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5181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S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5181480"/>
            <a:ext cx="13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Support Contract 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dahar AF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455400"/>
            <a:ext cx="881064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Doing Business with N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600" y="1385640"/>
            <a:ext cx="8726400" cy="4669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O works through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ain Financial Committees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frastructure Committee  (IC) – NATO Security Investment Programme (NSIP)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ilitary Budget Committee (MBC) – Admin.,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ow Committees Work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O National Delegations staff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mmittees make decisions, authorise projec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mmittees procure through Agen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O Delegations must nominate companies for them to be eligible to b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CBs – Case by case nomination  &gt;$5M (Euro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BOAs – One blanket nomination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65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66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920" y="5359320"/>
                <a:ext cx="184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7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Acquisition Lifecyc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843280" y="400536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98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01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ATO Programming St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1341360"/>
            <a:ext cx="3384720" cy="489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21280" y="1262160"/>
            <a:ext cx="3893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pability Packages (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loped by 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bmitted to NATO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/IMS Joi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allel Endo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C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s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RB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gibility/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st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roval by NAC/D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24:34Z</dcterms:created>
  <dc:creator>My PC</dc:creator>
  <dc:description/>
  <dc:language>en-US</dc:language>
  <cp:lastModifiedBy>My PC</cp:lastModifiedBy>
  <dcterms:modified xsi:type="dcterms:W3CDTF">2008-03-14T10:42:24Z</dcterms:modified>
  <cp:revision>20</cp:revision>
  <dc:subject/>
  <dc:title>Slide 1</dc:title>
</cp:coreProperties>
</file>